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3400-73BD-4D6C-9B00-5B099329B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4D58-224C-4D7B-9713-CB2E54C32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C24B15-466B-460C-8075-B39AC5841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25E59C-7BEB-4EA4-8205-6565D133C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39212A-FDC9-4229-9ADA-6F15DB5AE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34AA06-6E9E-4394-A831-9C68AA98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2E3505-5FCC-4D74-B5BD-D1AD431B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E5D526-FD0D-4828-9A30-1E7D4858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5BF8D2-C799-4962-A755-99B7E84FD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41B14F-2A38-45D5-9666-F33EE85D5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85F295-7299-4A4C-97E1-E71379638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06E13C-0E4B-402D-B07D-F67180E47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4871-B8AB-428B-801C-EF59470EF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31B336-A2D4-4C48-BF16-3AE8586AB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87AE92-F101-4A61-BEAC-B2739093B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93AAC3-385F-47C1-8371-31439CA22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70D060-7532-41AA-8CDB-79F8CE07E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0DF984-C0A2-4798-8567-B9ADDFA09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1868D0-34DB-4236-AD16-60F4F350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66B9AA-6917-4950-B1DC-8E65719C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8A422D-52B4-46A2-AC80-B6719FD4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E69289-356C-4E98-9DCF-F81B1A95B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374BAB-D26B-44E2-A879-0D076474E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1A3D-4DF5-4E68-84E4-6FA41C032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7CD50D-0631-47A2-BBA8-402AEB560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0436B6-E9E9-4324-A6B6-470CDC1A1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C61594-B888-42A6-B686-A98A30D83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ECF1B9-3624-400C-A844-DB1D1E481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F3FBE7-19BC-4ADD-8FC3-9DE617716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01F738-4605-4681-95FE-6A8BF3865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8118C0-90FF-4AEC-ACF7-804DF5C0D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D98F94-7CFB-468E-B072-59A07ECF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8A2848-6773-4287-8DDC-32E44397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D97EC2-6F2A-4C03-8F71-E3BFB5AB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5A5A4-53AB-43FE-9110-CA26E1907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B90C3F-A2E7-4A0E-BD1B-D6F9D0F32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713080-E2EC-4D3A-BA26-BBD780AA7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2DE997-0288-4E42-88DF-89855ACBD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CB408A-3238-498A-A889-DE8986072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A536A6-D6EE-42C9-8249-9F4DD088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3E2E9C-9F57-4C09-9CA6-5974C5DDC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D757B8-6673-4EA3-BF23-882015DE3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E339F3-FDBF-476D-B15F-4F8C8282A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F5AEBC-FBD1-4D4B-B7D7-385942B44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8DD3DC-70D6-4A37-A30F-A372B183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AD62A-C403-4E3B-8869-DC6343299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7AB670-5296-4016-9C3E-2F0D90AB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1CE6B1-E76F-4BF3-B8B4-1F8B9118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56716B-BFCC-4E95-BB9F-16C40B426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07F125-0BF5-4F0F-9325-37BC6A6BF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2B21C1-6428-471A-A848-D90D962F1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91DC2A-7458-4EE8-812E-95DACCBD4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4815E9-E6C2-4A0D-9655-6187E74B4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299454-E7D3-4C5A-96BA-4E086FDE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227334-037A-481C-A436-EE6D3E111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8E7CA0-2A9C-48DD-8B79-1A2FA2591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556C5-7335-4D49-94FA-F7A40D2B0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9CF227-02F6-4B8F-84DE-864A74258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E2B3AD-36ED-4A0B-A518-1792D0A5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D7C8E0-9204-467F-A67A-9C5A4FDD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8B9480-7B83-40E5-8E87-CCDD92D5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BAA67B-118D-4916-99DC-BED5E353C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38F0D0-F24A-430C-95AF-38135F597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74C473-C7ED-4515-B823-24282ACC7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D17B4A-95E5-4629-B657-13B14F47E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14B5E5-2BF2-417F-88D3-F18A422C3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44DB1B-78DB-491E-BEDD-FC7DFAADF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748ED-20E9-4A5E-A1FF-BA000258E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D7A886-9190-4A1A-A95D-1561B520D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46DB7E-82F2-4588-9DB8-A3776C1F4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39764A-71B7-4DD1-BFEB-6B12B4D6A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D6A58A-81E2-4D6D-8BF2-B1366096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9B08C2-B657-4E88-92D5-BCFC99E2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81E656-E57E-4A53-8A7D-900C7743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DD0454-C1C3-48B3-A9E0-45B8A760E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9784E3-388C-40EA-87E7-69C7B6446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529802-ED4B-4FC5-B0C8-68737AF85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01A4C7-379E-478E-8CF8-7CE8145CD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12B06-0000-4F73-B588-A926D2DC5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C1F452-6034-4730-B22E-7DB01862E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2E178C-4945-4410-A4D2-28213F8E4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1784A6-0EA7-4AC0-8447-F089795C5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E9C008-DEDA-4948-ACAE-67B8C7417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B00F31-9027-428F-950A-0C6F37B8C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8404C0-0A1B-4BA4-85F0-320AF768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735D2C-0000-4087-90B7-64F20633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5C91E9-E787-45C6-9F4F-6FA3EF28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E9C4E8-B28D-488B-894E-3FD5BBC51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CAEA19-A7F9-4A71-9117-871AAE9D4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54CC5-95C1-45A3-B41C-C613B71F0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B44929-7277-4253-8621-AB796436D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710051-A656-4745-83A4-53AD34B88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AA693C-F346-42C3-BF85-B59BB1D5B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AA5215-8C05-4EBF-A083-90C2E384D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17C3C8-09D0-411C-9D6F-C42FE33C2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86F7C2-06EE-4A8D-AEC5-DE1908D30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A81673-F87F-413F-882B-BF404555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E28AFC-81AE-43FD-887B-E1A68426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A52624-B855-415E-8ADD-6793669E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8F9777-4595-4F43-AEC7-793E04D6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40331-EEC2-4A26-B4D9-F020DB8D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80A5B4-6938-4782-B425-34F830CA0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30505F-FDE4-4A0B-A84F-3C7B99C6A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62792F-4CB7-42C3-A511-1EBF8EB39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0FBCE6-0F5B-461A-8A12-0906BB76F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41502D-584F-4557-A9B3-4F0EB355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8EAFE6-FF22-4B05-AA36-BE36FD488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60EB7C-62CA-4D87-B0C1-5CF0661BF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6E6102-6CFD-4D02-B200-9DC494A4E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7459D1-F451-45E9-948B-1832B6573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BC7BA9-2D32-49E9-B9F2-1CC8ECDB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A5C3-8F3B-48B0-8F5C-B4B38541B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233BA-844F-451F-B565-DF3E6A8B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1C1507-61BD-4792-AF06-F88203DC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D4B052-18B0-474D-90C0-69D2647A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6041C0-727F-4BBA-B375-313F6205D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377ED5-AAAC-4FE8-A2E7-D7F151514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65E13A-1358-4D11-85D0-FB33B4F1A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6E89A9-F318-4D53-87FD-383F2421F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4A4262-4437-49B4-B814-BD00C3045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6F17CD-2083-4AB9-B0F4-8DF0F70F7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5285F6-7932-44EA-8861-7A4928537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4437DF-90D1-4CA9-A5FA-A58522B71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95E75-8937-416E-BC21-3BC2BF27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31443F-646A-45EC-A807-C962A42EB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E432AD-3A1A-4E69-B43D-7C5A2AC0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DB8A2B-4F54-44D8-B3D5-BFFB3246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6750F9-757C-4DC4-B0AD-B4121E31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01AADF-5A76-4183-997D-53B164B02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518C02-338E-49AB-A0F6-BACB1CE05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715ACB-889D-4E69-9AC2-4FF15A985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100AB6-E56A-4550-BBE0-66CC78217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FC51FB-E03F-4FD5-8A68-603753257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A15FE0-2AC9-4706-80D9-8B7C8461F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1457C-4CC2-4932-BD2F-DA04EAEB4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A70A3A-7374-4C78-8A25-0CBDBCB80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C66033-086C-46E0-B035-946D3233F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2A000E-BE93-4B0E-9D5D-65D8BFCA0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F55FBF-480A-4049-89A6-8DA4398D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2A878F-37E1-4C51-BF3A-3D56F36D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3D1427-F47D-4744-8613-065A932D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35CDA9-7A69-49C6-BE72-8776C71A2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C7A417-95F7-4FB6-B7FE-9791B0773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CC9DB5-3E90-43F4-932C-99701FA9E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90211F-7837-4D84-9380-6DBE301D4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0FD77-335B-403D-9B25-47E47B95D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68A7BE-EF3C-46E3-809C-3057D8BF1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2ED07A-8FBE-4E61-BF87-40920EC6F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2EC8A7-3F7D-4E40-9E18-FF41D5009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7915EF-4FCC-4C8C-86CC-00A4011E0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F0079E-65A5-49F5-8C42-A19DE8212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E394AD-DB53-4CD8-B4A8-D098D50B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2BA635-E836-490C-B9D8-6D9692F8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88B429-7BC7-4A05-8725-12AC0BED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57AA06-817C-4395-82B9-3D093B1ED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8FF1D4-0641-4A52-B7FC-F3849C111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77E97-349D-4994-9C04-E16D1B1BB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50FD53-AA3D-42EF-8027-49E757DBB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5119C2-D93C-4E66-A194-64CA956B9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F2A693-770E-4F7B-91AB-BE349B846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4F5585-6C5E-418A-9D39-F0B2DA8E8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EF358F-5B59-49E2-8BA8-722E33560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494D3A-FC1C-45BD-84A2-D5EE4086E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BE6A20-8147-493A-922A-F266803A3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1B4F2A-85D7-418C-9962-F674A4B4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BDB8B2-E40A-4E06-970F-FF041822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BB9F64-FBE6-4A98-8C8A-1EDEE60F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270B5-CED0-42AB-BAB9-60DE53B89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A7B3B2-F9EE-4391-B24F-F8335BAF6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D73CF3-AA89-4E8E-92BF-65A3AB9D8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A11639-D854-4712-8FB0-DB336C1F7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DAB62-B6DC-413A-AAF2-8E2CAF235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8CED0-8810-4184-AF80-09CEF43A5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FF0E8-D786-45A4-8252-608BD3745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6E583-F18A-4579-A5DC-5617A8854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1CDB-3FDF-4967-B27E-D43291A51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3781B-B536-4AA0-9B46-C3DD5BAAF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17D6A-8E9E-41D9-8B84-5B61056F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0E7F8-7695-4030-8554-B8ABC34C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72ABB-E6FA-4C74-8DED-BF050BAD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1C303-16E8-449B-A817-6FD96F64B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E0ABA-9543-49DB-8084-0426841C5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9208E-2A45-48A9-B8CF-88E06E206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86C49-01DA-4B80-B8E4-7E7757B9E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66DBD-AB8E-4ACC-A5B6-3610F2891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0A0EB-73CF-4448-81F5-A692FFA8B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88A4-C35D-414F-A7A4-5AC17F572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10488-6C70-442F-B971-CA245E3B0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26B2B-5947-40DD-AB36-5D7318F4D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2B2E7-6041-4C66-BB39-B0E639DB5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8985B-BD8F-4CD3-988B-AF5CB690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36D15-B027-41EA-848B-F80A75A6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20080-B4EF-4D5B-A82B-AF4351DB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C7AB5-9ADD-4844-AF72-99A5F89E4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6EB54-FF96-4BCD-9416-70005EEAA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7C466-642D-4D18-8583-64602F6E9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63D3A-3D66-4ACB-ABF5-7D50B6A57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81F0-2023-4F98-93F3-2A8479966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B474E-DF0F-4B4D-A0FA-B7FD38984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890B7-F268-4D38-B9B5-CCA9491E8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93DD6-9C4E-4424-B253-85EC37909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44373-B27F-4C49-BB66-14C42E340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0F650-638C-468F-95EF-253D92960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0FDCD-ED8A-4B04-8B1B-9A055C0E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52F5A-B05E-4E3F-8698-AA1E2853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EA3C5-3644-47B4-9B1D-E8A51830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86078-51EE-4795-8D2E-3A737C056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3D7EA-28F2-49D5-BD0C-ABB7BE16B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9E22-2F36-4003-82E6-ADBFF4857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2FF39-F9F3-4F08-A9E8-5041DA134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892EA-099F-4D6D-B564-4A204DD8A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087C0-E33A-46B5-A26F-47C110455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428E8-E14A-4B40-941F-388E27B19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36EA3-2FCC-4C3C-A58F-31EEDB308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629FB-65D5-4F98-95A1-AA5EDEB1F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02FBA-0D60-4119-A530-9CFA3F079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37CA5A-BEAE-4D19-B9C4-189DB005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88AD4-7C68-48B5-9A64-65EBD706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CDEBC-8D43-43A1-B14A-E9931D81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D984-0E86-462A-A895-9563495F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8FE50-E159-4C32-AA19-8A26C7EF9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9D19A1-2729-44D8-9E90-178FBB03C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8D863-8E93-4A74-BC35-307CD5854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84FC2-D851-405B-A5E0-FC0A33C17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2AC7A7-23B8-4CFE-B26F-8A5CF4C9A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74E90-8618-4D69-9FDE-BE36A960C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AC96DD-9836-4C19-9A49-5092E6908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594E1-821F-4980-8E65-C3A7D4086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C2BC4-2FB6-49DC-94A1-1C25F4165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EA2AAC-08D3-4C99-9157-AABFC8D7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C48E-7DDB-4629-BF79-3E65BD20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5724D-A2EF-430A-9F37-E324F462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27FC5C-4823-4A2E-BB75-FBC1E884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BB391-EA8C-4CAB-8128-1F7BC7E1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10E9A0-44F9-40CB-86A6-A71EAF4A3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CE5A6-16C5-4DEF-9A25-206BFE409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08AD6A-7296-463A-B87A-1AD1CAFDA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1F166-840A-4A0C-B841-2986E4CB4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331FB9-1D41-4829-B32F-604D5BC69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849824-C14A-40B0-B267-2F7949BA9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8AC787-FCA7-4DB5-BEBA-43FFBDE21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C0F7-AAAA-4E23-9979-93D5C9CC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4AFD27-BE69-405E-A4B5-65ABC7737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AC60F0-A2D6-4B4A-BB33-D2FDA90C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B6145D-6338-41D1-8377-8CAE24B4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863BF9-9312-41B0-8819-D7BA5DFA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E2A2A5-4366-4ED3-AC44-AD1852873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462195-285B-408F-8E8B-5300D78A8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1EA18-4EE5-44E3-9CE1-8B7DEBEAD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CC7563-E04A-4B6D-98EB-2AAC6E14B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BC97E4-B08F-407B-BDAC-1D4D07109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DC7BF4-E64B-4823-9174-3DEBBF5DE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ECDCE-8797-47BF-94F0-1BD8DF26DA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99AC6-91EF-4C1F-8B17-7B6C0FC79F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B8B0F-0E8F-4E8D-AE0A-85BC21616F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66103-B683-4117-BC1C-C9562C83FC0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EEE8E-6BFD-48D7-BB24-271B19EEAB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27813-D2A5-48FC-B358-7B8637751A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F233F-47B3-48CA-815B-56207B509E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AA358-1F85-4C4B-B224-D3D0E4A6D5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91C94-7793-4E29-9D91-BDBC591F47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D5843-A699-41C0-BC08-5A2B32409E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30DD8-446A-4312-8422-1FB2543C5C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22B1B-7668-4295-84CA-BD9D8E4E7C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25176-0DAE-4236-8F6F-FD6CD65F1F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90A63-8152-46B4-8CB2-AD86629950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C8B82-67D1-4A36-B44A-87351B1680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363EF-F6BB-450B-B844-7118E38575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81B49-E775-4F87-8E4C-117AF8D160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7597C-A76D-47A9-8BB7-21EEF6BE68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168F8-B4F5-45C2-B39D-4F5DA7C66E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82A6D-76E8-4DFD-BED9-F3ACBC57E7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C9194-6EF6-4CD9-A76C-D5F8F15B23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496EC-A75C-434A-99C7-5335301E4F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1D697-58F5-4CB6-9582-7837C48024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562E3-5D92-460B-8FC9-9A1BD15DBF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7390-29CA-4152-821C-3AFBA2FE29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69E9D-5967-4692-9205-73700FAEBF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FC71E-02A9-4B74-B8F9-15BB46E6AE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14BF8-FB99-45A7-B60F-6D1E3F6395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894E0-1D77-421A-A165-6A878F7612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1AC29-53B1-4845-94B3-236812AC23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3457F-FDC9-401F-B719-808CAAB581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A9B5D-F1DC-468F-BAE8-380C7F9507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A5DE3-DD55-4A28-8A01-B55EB4F589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E52E8-03D2-4DC2-86E5-2ACE11C6C8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5AEC1-03AD-4A52-8807-2BDB1F2874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1BA13-561B-4D9A-89E8-D974351AAEA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393DF-A627-44CC-95FF-F1D89CFC43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6CEE4-D089-4C2B-B42F-0D868127F8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D094-3FD2-42FA-9E1A-FED1CDC2D4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6D843-71DF-4EE2-AAD6-1E7AAA625C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2" descr=""/>
          <p:cNvPicPr/>
          <p:nvPr/>
        </p:nvPicPr>
        <p:blipFill>
          <a:blip r:embed="rId1"/>
          <a:stretch/>
        </p:blipFill>
        <p:spPr>
          <a:xfrm>
            <a:off x="1490760" y="3186000"/>
            <a:ext cx="6162480" cy="4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2" name="图片 1" descr=""/>
          <p:cNvPicPr/>
          <p:nvPr/>
        </p:nvPicPr>
        <p:blipFill>
          <a:blip r:embed="rId1"/>
          <a:stretch/>
        </p:blipFill>
        <p:spPr>
          <a:xfrm>
            <a:off x="343080" y="820800"/>
            <a:ext cx="8458200" cy="5933880"/>
          </a:xfrm>
          <a:prstGeom prst="rect">
            <a:avLst/>
          </a:prstGeom>
          <a:ln w="0">
            <a:noFill/>
          </a:ln>
        </p:spPr>
      </p:pic>
      <p:pic>
        <p:nvPicPr>
          <p:cNvPr id="1073" name="图片 2" descr=""/>
          <p:cNvPicPr/>
          <p:nvPr/>
        </p:nvPicPr>
        <p:blipFill>
          <a:blip r:embed="rId2"/>
          <a:stretch/>
        </p:blipFill>
        <p:spPr>
          <a:xfrm>
            <a:off x="620640" y="747720"/>
            <a:ext cx="517536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4" name="图片 1" descr=""/>
          <p:cNvPicPr/>
          <p:nvPr/>
        </p:nvPicPr>
        <p:blipFill>
          <a:blip r:embed="rId1"/>
          <a:stretch/>
        </p:blipFill>
        <p:spPr>
          <a:xfrm>
            <a:off x="642960" y="1181160"/>
            <a:ext cx="7856640" cy="4495680"/>
          </a:xfrm>
          <a:prstGeom prst="rect">
            <a:avLst/>
          </a:prstGeom>
          <a:ln w="0">
            <a:noFill/>
          </a:ln>
        </p:spPr>
      </p:pic>
      <p:pic>
        <p:nvPicPr>
          <p:cNvPr id="1075" name="图片 2" descr=""/>
          <p:cNvPicPr/>
          <p:nvPr/>
        </p:nvPicPr>
        <p:blipFill>
          <a:blip r:embed="rId2"/>
          <a:stretch/>
        </p:blipFill>
        <p:spPr>
          <a:xfrm>
            <a:off x="5435640" y="1125360"/>
            <a:ext cx="1008000" cy="428760"/>
          </a:xfrm>
          <a:prstGeom prst="rect">
            <a:avLst/>
          </a:prstGeom>
          <a:ln w="0">
            <a:noFill/>
          </a:ln>
        </p:spPr>
      </p:pic>
      <p:pic>
        <p:nvPicPr>
          <p:cNvPr id="1076" name="图片 3" descr=""/>
          <p:cNvPicPr/>
          <p:nvPr/>
        </p:nvPicPr>
        <p:blipFill>
          <a:blip r:embed="rId3"/>
          <a:stretch/>
        </p:blipFill>
        <p:spPr>
          <a:xfrm>
            <a:off x="2843280" y="2637000"/>
            <a:ext cx="5689440" cy="428400"/>
          </a:xfrm>
          <a:prstGeom prst="rect">
            <a:avLst/>
          </a:prstGeom>
          <a:ln w="0">
            <a:noFill/>
          </a:ln>
        </p:spPr>
      </p:pic>
      <p:pic>
        <p:nvPicPr>
          <p:cNvPr id="1077" name="图片 4" descr=""/>
          <p:cNvPicPr/>
          <p:nvPr/>
        </p:nvPicPr>
        <p:blipFill>
          <a:blip r:embed="rId4"/>
          <a:stretch/>
        </p:blipFill>
        <p:spPr>
          <a:xfrm>
            <a:off x="1258920" y="3121200"/>
            <a:ext cx="1728720" cy="428400"/>
          </a:xfrm>
          <a:prstGeom prst="rect">
            <a:avLst/>
          </a:prstGeom>
          <a:ln w="0">
            <a:noFill/>
          </a:ln>
        </p:spPr>
      </p:pic>
      <p:pic>
        <p:nvPicPr>
          <p:cNvPr id="1078" name="图片 5" descr=""/>
          <p:cNvPicPr/>
          <p:nvPr/>
        </p:nvPicPr>
        <p:blipFill>
          <a:blip r:embed="rId5"/>
          <a:stretch/>
        </p:blipFill>
        <p:spPr>
          <a:xfrm>
            <a:off x="1411200" y="4152960"/>
            <a:ext cx="5176800" cy="428400"/>
          </a:xfrm>
          <a:prstGeom prst="rect">
            <a:avLst/>
          </a:prstGeom>
          <a:ln w="0">
            <a:noFill/>
          </a:ln>
        </p:spPr>
      </p:pic>
      <p:pic>
        <p:nvPicPr>
          <p:cNvPr id="1079" name="图片 6" descr=""/>
          <p:cNvPicPr/>
          <p:nvPr/>
        </p:nvPicPr>
        <p:blipFill>
          <a:blip r:embed="rId6"/>
          <a:stretch/>
        </p:blipFill>
        <p:spPr>
          <a:xfrm>
            <a:off x="1979640" y="5157720"/>
            <a:ext cx="597708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0" name="图片 1" descr=""/>
          <p:cNvPicPr/>
          <p:nvPr/>
        </p:nvPicPr>
        <p:blipFill>
          <a:blip r:embed="rId1"/>
          <a:stretch/>
        </p:blipFill>
        <p:spPr>
          <a:xfrm>
            <a:off x="390600" y="977760"/>
            <a:ext cx="8362800" cy="5619960"/>
          </a:xfrm>
          <a:prstGeom prst="rect">
            <a:avLst/>
          </a:prstGeom>
          <a:ln w="0">
            <a:noFill/>
          </a:ln>
        </p:spPr>
      </p:pic>
      <p:pic>
        <p:nvPicPr>
          <p:cNvPr id="1081" name="图片 2" descr=""/>
          <p:cNvPicPr/>
          <p:nvPr/>
        </p:nvPicPr>
        <p:blipFill>
          <a:blip r:embed="rId2"/>
          <a:stretch/>
        </p:blipFill>
        <p:spPr>
          <a:xfrm>
            <a:off x="4716360" y="5127480"/>
            <a:ext cx="1656000" cy="428760"/>
          </a:xfrm>
          <a:prstGeom prst="rect">
            <a:avLst/>
          </a:prstGeom>
          <a:ln w="0">
            <a:noFill/>
          </a:ln>
        </p:spPr>
      </p:pic>
      <p:pic>
        <p:nvPicPr>
          <p:cNvPr id="1082" name="图片 3" descr=""/>
          <p:cNvPicPr/>
          <p:nvPr/>
        </p:nvPicPr>
        <p:blipFill>
          <a:blip r:embed="rId3"/>
          <a:stretch/>
        </p:blipFill>
        <p:spPr>
          <a:xfrm>
            <a:off x="2556000" y="5638680"/>
            <a:ext cx="79200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3" name="图片 1" descr=""/>
          <p:cNvPicPr/>
          <p:nvPr/>
        </p:nvPicPr>
        <p:blipFill>
          <a:blip r:embed="rId1"/>
          <a:stretch/>
        </p:blipFill>
        <p:spPr>
          <a:xfrm>
            <a:off x="585720" y="884160"/>
            <a:ext cx="7970760" cy="3152880"/>
          </a:xfrm>
          <a:prstGeom prst="rect">
            <a:avLst/>
          </a:prstGeom>
          <a:ln w="0">
            <a:noFill/>
          </a:ln>
        </p:spPr>
      </p:pic>
      <p:pic>
        <p:nvPicPr>
          <p:cNvPr id="1084" name="图片 2" descr=""/>
          <p:cNvPicPr/>
          <p:nvPr/>
        </p:nvPicPr>
        <p:blipFill>
          <a:blip r:embed="rId2"/>
          <a:stretch/>
        </p:blipFill>
        <p:spPr>
          <a:xfrm>
            <a:off x="2987640" y="857160"/>
            <a:ext cx="5761080" cy="428760"/>
          </a:xfrm>
          <a:prstGeom prst="rect">
            <a:avLst/>
          </a:prstGeom>
          <a:ln w="0">
            <a:noFill/>
          </a:ln>
        </p:spPr>
      </p:pic>
      <p:pic>
        <p:nvPicPr>
          <p:cNvPr id="1085" name="图片 3" descr=""/>
          <p:cNvPicPr/>
          <p:nvPr/>
        </p:nvPicPr>
        <p:blipFill>
          <a:blip r:embed="rId3"/>
          <a:stretch/>
        </p:blipFill>
        <p:spPr>
          <a:xfrm>
            <a:off x="1403280" y="1370160"/>
            <a:ext cx="1728720" cy="428400"/>
          </a:xfrm>
          <a:prstGeom prst="rect">
            <a:avLst/>
          </a:prstGeom>
          <a:ln w="0">
            <a:noFill/>
          </a:ln>
        </p:spPr>
      </p:pic>
      <p:pic>
        <p:nvPicPr>
          <p:cNvPr id="1086" name="图片 4" descr=""/>
          <p:cNvPicPr/>
          <p:nvPr/>
        </p:nvPicPr>
        <p:blipFill>
          <a:blip r:embed="rId4"/>
          <a:stretch/>
        </p:blipFill>
        <p:spPr>
          <a:xfrm>
            <a:off x="3348000" y="2359080"/>
            <a:ext cx="79236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2" descr=""/>
          <p:cNvPicPr/>
          <p:nvPr/>
        </p:nvPicPr>
        <p:blipFill>
          <a:blip r:embed="rId1"/>
          <a:stretch/>
        </p:blipFill>
        <p:spPr>
          <a:xfrm>
            <a:off x="147600" y="706320"/>
            <a:ext cx="8848800" cy="6115320"/>
          </a:xfrm>
          <a:prstGeom prst="rect">
            <a:avLst/>
          </a:prstGeom>
          <a:ln w="0">
            <a:noFill/>
          </a:ln>
        </p:spPr>
      </p:pic>
      <p:pic>
        <p:nvPicPr>
          <p:cNvPr id="1024" name="图片 2" descr=""/>
          <p:cNvPicPr/>
          <p:nvPr/>
        </p:nvPicPr>
        <p:blipFill>
          <a:blip r:embed="rId2"/>
          <a:stretch/>
        </p:blipFill>
        <p:spPr>
          <a:xfrm>
            <a:off x="2627280" y="1865160"/>
            <a:ext cx="865080" cy="287640"/>
          </a:xfrm>
          <a:prstGeom prst="rect">
            <a:avLst/>
          </a:prstGeom>
          <a:ln w="0">
            <a:noFill/>
          </a:ln>
        </p:spPr>
      </p:pic>
      <p:pic>
        <p:nvPicPr>
          <p:cNvPr id="1025" name="图片 3" descr=""/>
          <p:cNvPicPr/>
          <p:nvPr/>
        </p:nvPicPr>
        <p:blipFill>
          <a:blip r:embed="rId3"/>
          <a:stretch/>
        </p:blipFill>
        <p:spPr>
          <a:xfrm>
            <a:off x="4284720" y="1844640"/>
            <a:ext cx="863640" cy="289080"/>
          </a:xfrm>
          <a:prstGeom prst="rect">
            <a:avLst/>
          </a:prstGeom>
          <a:ln w="0">
            <a:noFill/>
          </a:ln>
        </p:spPr>
      </p:pic>
      <p:pic>
        <p:nvPicPr>
          <p:cNvPr id="1026" name="图片 4" descr=""/>
          <p:cNvPicPr/>
          <p:nvPr/>
        </p:nvPicPr>
        <p:blipFill>
          <a:blip r:embed="rId4"/>
          <a:stretch/>
        </p:blipFill>
        <p:spPr>
          <a:xfrm>
            <a:off x="7812000" y="1844640"/>
            <a:ext cx="1008000" cy="289080"/>
          </a:xfrm>
          <a:prstGeom prst="rect">
            <a:avLst/>
          </a:prstGeom>
          <a:ln w="0">
            <a:noFill/>
          </a:ln>
        </p:spPr>
      </p:pic>
      <p:pic>
        <p:nvPicPr>
          <p:cNvPr id="1027" name="图片 5" descr=""/>
          <p:cNvPicPr/>
          <p:nvPr/>
        </p:nvPicPr>
        <p:blipFill>
          <a:blip r:embed="rId5"/>
          <a:stretch/>
        </p:blipFill>
        <p:spPr>
          <a:xfrm>
            <a:off x="3203640" y="2637000"/>
            <a:ext cx="1297080" cy="28728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6" descr=""/>
          <p:cNvPicPr/>
          <p:nvPr/>
        </p:nvPicPr>
        <p:blipFill>
          <a:blip r:embed="rId6"/>
          <a:stretch/>
        </p:blipFill>
        <p:spPr>
          <a:xfrm>
            <a:off x="2700360" y="3397320"/>
            <a:ext cx="1727280" cy="287280"/>
          </a:xfrm>
          <a:prstGeom prst="rect">
            <a:avLst/>
          </a:prstGeom>
          <a:ln w="0">
            <a:noFill/>
          </a:ln>
        </p:spPr>
      </p:pic>
      <p:pic>
        <p:nvPicPr>
          <p:cNvPr id="1029" name="图片 7" descr=""/>
          <p:cNvPicPr/>
          <p:nvPr/>
        </p:nvPicPr>
        <p:blipFill>
          <a:blip r:embed="rId7"/>
          <a:stretch/>
        </p:blipFill>
        <p:spPr>
          <a:xfrm>
            <a:off x="6084720" y="3397320"/>
            <a:ext cx="863640" cy="287280"/>
          </a:xfrm>
          <a:prstGeom prst="rect">
            <a:avLst/>
          </a:prstGeom>
          <a:ln w="0">
            <a:noFill/>
          </a:ln>
        </p:spPr>
      </p:pic>
      <p:pic>
        <p:nvPicPr>
          <p:cNvPr id="1030" name="图片 8" descr=""/>
          <p:cNvPicPr/>
          <p:nvPr/>
        </p:nvPicPr>
        <p:blipFill>
          <a:blip r:embed="rId8"/>
          <a:stretch/>
        </p:blipFill>
        <p:spPr>
          <a:xfrm>
            <a:off x="7667640" y="3397320"/>
            <a:ext cx="865080" cy="287280"/>
          </a:xfrm>
          <a:prstGeom prst="rect">
            <a:avLst/>
          </a:prstGeom>
          <a:ln w="0">
            <a:noFill/>
          </a:ln>
        </p:spPr>
      </p:pic>
      <p:pic>
        <p:nvPicPr>
          <p:cNvPr id="1031" name="图片 9" descr=""/>
          <p:cNvPicPr/>
          <p:nvPr/>
        </p:nvPicPr>
        <p:blipFill>
          <a:blip r:embed="rId9"/>
          <a:stretch/>
        </p:blipFill>
        <p:spPr>
          <a:xfrm>
            <a:off x="1258920" y="3789360"/>
            <a:ext cx="504720" cy="287280"/>
          </a:xfrm>
          <a:prstGeom prst="rect">
            <a:avLst/>
          </a:prstGeom>
          <a:ln w="0">
            <a:noFill/>
          </a:ln>
        </p:spPr>
      </p:pic>
      <p:pic>
        <p:nvPicPr>
          <p:cNvPr id="1032" name="图片 10" descr=""/>
          <p:cNvPicPr/>
          <p:nvPr/>
        </p:nvPicPr>
        <p:blipFill>
          <a:blip r:embed="rId10"/>
          <a:stretch/>
        </p:blipFill>
        <p:spPr>
          <a:xfrm>
            <a:off x="2484360" y="4941720"/>
            <a:ext cx="5616720" cy="287640"/>
          </a:xfrm>
          <a:prstGeom prst="rect">
            <a:avLst/>
          </a:prstGeom>
          <a:ln w="0">
            <a:noFill/>
          </a:ln>
        </p:spPr>
      </p:pic>
      <p:pic>
        <p:nvPicPr>
          <p:cNvPr id="1033" name="图片 11" descr=""/>
          <p:cNvPicPr/>
          <p:nvPr/>
        </p:nvPicPr>
        <p:blipFill>
          <a:blip r:embed="rId11"/>
          <a:stretch/>
        </p:blipFill>
        <p:spPr>
          <a:xfrm>
            <a:off x="2843280" y="6083280"/>
            <a:ext cx="5616360" cy="287280"/>
          </a:xfrm>
          <a:prstGeom prst="rect">
            <a:avLst/>
          </a:prstGeom>
          <a:ln w="0">
            <a:noFill/>
          </a:ln>
        </p:spPr>
      </p:pic>
      <p:pic>
        <p:nvPicPr>
          <p:cNvPr id="1034" name="图片 12" descr=""/>
          <p:cNvPicPr/>
          <p:nvPr/>
        </p:nvPicPr>
        <p:blipFill>
          <a:blip r:embed="rId12"/>
          <a:stretch/>
        </p:blipFill>
        <p:spPr>
          <a:xfrm>
            <a:off x="2700360" y="6473880"/>
            <a:ext cx="561672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Picture 2" descr=""/>
          <p:cNvPicPr/>
          <p:nvPr/>
        </p:nvPicPr>
        <p:blipFill>
          <a:blip r:embed="rId1"/>
          <a:stretch/>
        </p:blipFill>
        <p:spPr>
          <a:xfrm>
            <a:off x="142920" y="915840"/>
            <a:ext cx="8858160" cy="5753160"/>
          </a:xfrm>
          <a:prstGeom prst="rect">
            <a:avLst/>
          </a:prstGeom>
          <a:ln w="0">
            <a:noFill/>
          </a:ln>
        </p:spPr>
      </p:pic>
      <p:pic>
        <p:nvPicPr>
          <p:cNvPr id="1036" name="图片 2" descr=""/>
          <p:cNvPicPr/>
          <p:nvPr/>
        </p:nvPicPr>
        <p:blipFill>
          <a:blip r:embed="rId2"/>
          <a:stretch/>
        </p:blipFill>
        <p:spPr>
          <a:xfrm>
            <a:off x="2843280" y="1268280"/>
            <a:ext cx="5616360" cy="289080"/>
          </a:xfrm>
          <a:prstGeom prst="rect">
            <a:avLst/>
          </a:prstGeom>
          <a:ln w="0">
            <a:noFill/>
          </a:ln>
        </p:spPr>
      </p:pic>
      <p:pic>
        <p:nvPicPr>
          <p:cNvPr id="1037" name="图片 3" descr=""/>
          <p:cNvPicPr/>
          <p:nvPr/>
        </p:nvPicPr>
        <p:blipFill>
          <a:blip r:embed="rId3"/>
          <a:stretch/>
        </p:blipFill>
        <p:spPr>
          <a:xfrm>
            <a:off x="3419640" y="1649520"/>
            <a:ext cx="5329080" cy="287280"/>
          </a:xfrm>
          <a:prstGeom prst="rect">
            <a:avLst/>
          </a:prstGeom>
          <a:ln w="0">
            <a:noFill/>
          </a:ln>
        </p:spPr>
      </p:pic>
      <p:pic>
        <p:nvPicPr>
          <p:cNvPr id="1038" name="图片 4" descr=""/>
          <p:cNvPicPr/>
          <p:nvPr/>
        </p:nvPicPr>
        <p:blipFill>
          <a:blip r:embed="rId4"/>
          <a:stretch/>
        </p:blipFill>
        <p:spPr>
          <a:xfrm>
            <a:off x="3419640" y="2421000"/>
            <a:ext cx="5329080" cy="287280"/>
          </a:xfrm>
          <a:prstGeom prst="rect">
            <a:avLst/>
          </a:prstGeom>
          <a:ln w="0">
            <a:noFill/>
          </a:ln>
        </p:spPr>
      </p:pic>
      <p:pic>
        <p:nvPicPr>
          <p:cNvPr id="1039" name="图片 5" descr=""/>
          <p:cNvPicPr/>
          <p:nvPr/>
        </p:nvPicPr>
        <p:blipFill>
          <a:blip r:embed="rId5"/>
          <a:stretch/>
        </p:blipFill>
        <p:spPr>
          <a:xfrm>
            <a:off x="2916360" y="2800440"/>
            <a:ext cx="5327640" cy="288720"/>
          </a:xfrm>
          <a:prstGeom prst="rect">
            <a:avLst/>
          </a:prstGeom>
          <a:ln w="0">
            <a:noFill/>
          </a:ln>
        </p:spPr>
      </p:pic>
      <p:pic>
        <p:nvPicPr>
          <p:cNvPr id="1040" name="图片 6" descr=""/>
          <p:cNvPicPr/>
          <p:nvPr/>
        </p:nvPicPr>
        <p:blipFill>
          <a:blip r:embed="rId6"/>
          <a:stretch/>
        </p:blipFill>
        <p:spPr>
          <a:xfrm>
            <a:off x="8388360" y="4508640"/>
            <a:ext cx="36036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Picture 2" descr=""/>
          <p:cNvPicPr/>
          <p:nvPr/>
        </p:nvPicPr>
        <p:blipFill>
          <a:blip r:embed="rId1"/>
          <a:stretch/>
        </p:blipFill>
        <p:spPr>
          <a:xfrm>
            <a:off x="104760" y="923760"/>
            <a:ext cx="8934480" cy="5010480"/>
          </a:xfrm>
          <a:prstGeom prst="rect">
            <a:avLst/>
          </a:prstGeom>
          <a:ln w="0">
            <a:noFill/>
          </a:ln>
        </p:spPr>
      </p:pic>
      <p:pic>
        <p:nvPicPr>
          <p:cNvPr id="1042" name="图片 3" descr=""/>
          <p:cNvPicPr/>
          <p:nvPr/>
        </p:nvPicPr>
        <p:blipFill>
          <a:blip r:embed="rId2"/>
          <a:stretch/>
        </p:blipFill>
        <p:spPr>
          <a:xfrm>
            <a:off x="8388360" y="1341360"/>
            <a:ext cx="360360" cy="287280"/>
          </a:xfrm>
          <a:prstGeom prst="rect">
            <a:avLst/>
          </a:prstGeom>
          <a:ln w="0">
            <a:noFill/>
          </a:ln>
        </p:spPr>
      </p:pic>
      <p:pic>
        <p:nvPicPr>
          <p:cNvPr id="1043" name="图片 4" descr=""/>
          <p:cNvPicPr/>
          <p:nvPr/>
        </p:nvPicPr>
        <p:blipFill>
          <a:blip r:embed="rId3"/>
          <a:stretch/>
        </p:blipFill>
        <p:spPr>
          <a:xfrm>
            <a:off x="3059280" y="4354560"/>
            <a:ext cx="5113080" cy="288720"/>
          </a:xfrm>
          <a:prstGeom prst="rect">
            <a:avLst/>
          </a:prstGeom>
          <a:ln w="0">
            <a:noFill/>
          </a:ln>
        </p:spPr>
      </p:pic>
      <p:pic>
        <p:nvPicPr>
          <p:cNvPr id="1044" name="图片 5" descr=""/>
          <p:cNvPicPr/>
          <p:nvPr/>
        </p:nvPicPr>
        <p:blipFill>
          <a:blip r:embed="rId4"/>
          <a:stretch/>
        </p:blipFill>
        <p:spPr>
          <a:xfrm>
            <a:off x="2987640" y="4754520"/>
            <a:ext cx="5113440" cy="289080"/>
          </a:xfrm>
          <a:prstGeom prst="rect">
            <a:avLst/>
          </a:prstGeom>
          <a:ln w="0">
            <a:noFill/>
          </a:ln>
        </p:spPr>
      </p:pic>
      <p:pic>
        <p:nvPicPr>
          <p:cNvPr id="1045" name="图片 6" descr=""/>
          <p:cNvPicPr/>
          <p:nvPr/>
        </p:nvPicPr>
        <p:blipFill>
          <a:blip r:embed="rId5"/>
          <a:stretch/>
        </p:blipFill>
        <p:spPr>
          <a:xfrm>
            <a:off x="2700360" y="5157720"/>
            <a:ext cx="5553000" cy="287280"/>
          </a:xfrm>
          <a:prstGeom prst="rect">
            <a:avLst/>
          </a:prstGeom>
          <a:ln w="0">
            <a:noFill/>
          </a:ln>
        </p:spPr>
      </p:pic>
      <p:pic>
        <p:nvPicPr>
          <p:cNvPr id="1046" name="图片 7" descr=""/>
          <p:cNvPicPr/>
          <p:nvPr/>
        </p:nvPicPr>
        <p:blipFill>
          <a:blip r:embed="rId6"/>
          <a:stretch/>
        </p:blipFill>
        <p:spPr>
          <a:xfrm>
            <a:off x="2979720" y="5516640"/>
            <a:ext cx="555300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图片 1" descr=""/>
          <p:cNvPicPr/>
          <p:nvPr/>
        </p:nvPicPr>
        <p:blipFill>
          <a:blip r:embed="rId1"/>
          <a:stretch/>
        </p:blipFill>
        <p:spPr>
          <a:xfrm>
            <a:off x="395280" y="773280"/>
            <a:ext cx="8504280" cy="5941800"/>
          </a:xfrm>
          <a:prstGeom prst="rect">
            <a:avLst/>
          </a:prstGeom>
          <a:ln w="0">
            <a:noFill/>
          </a:ln>
        </p:spPr>
      </p:pic>
      <p:pic>
        <p:nvPicPr>
          <p:cNvPr id="1048" name="图片 2" descr=""/>
          <p:cNvPicPr/>
          <p:nvPr/>
        </p:nvPicPr>
        <p:blipFill>
          <a:blip r:embed="rId2"/>
          <a:stretch/>
        </p:blipFill>
        <p:spPr>
          <a:xfrm>
            <a:off x="7885080" y="1413000"/>
            <a:ext cx="647640" cy="428400"/>
          </a:xfrm>
          <a:prstGeom prst="rect">
            <a:avLst/>
          </a:prstGeom>
          <a:ln w="0">
            <a:noFill/>
          </a:ln>
        </p:spPr>
      </p:pic>
      <p:pic>
        <p:nvPicPr>
          <p:cNvPr id="1049" name="图片 3" descr=""/>
          <p:cNvPicPr/>
          <p:nvPr/>
        </p:nvPicPr>
        <p:blipFill>
          <a:blip r:embed="rId3"/>
          <a:stretch/>
        </p:blipFill>
        <p:spPr>
          <a:xfrm>
            <a:off x="7885080" y="3494160"/>
            <a:ext cx="647640" cy="428400"/>
          </a:xfrm>
          <a:prstGeom prst="rect">
            <a:avLst/>
          </a:prstGeom>
          <a:ln w="0">
            <a:noFill/>
          </a:ln>
        </p:spPr>
      </p:pic>
      <p:pic>
        <p:nvPicPr>
          <p:cNvPr id="1050" name="图片 4" descr=""/>
          <p:cNvPicPr/>
          <p:nvPr/>
        </p:nvPicPr>
        <p:blipFill>
          <a:blip r:embed="rId4"/>
          <a:stretch/>
        </p:blipFill>
        <p:spPr>
          <a:xfrm>
            <a:off x="7885080" y="5602320"/>
            <a:ext cx="64764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图片 1" descr=""/>
          <p:cNvPicPr/>
          <p:nvPr/>
        </p:nvPicPr>
        <p:blipFill>
          <a:blip r:embed="rId1"/>
          <a:stretch/>
        </p:blipFill>
        <p:spPr>
          <a:xfrm>
            <a:off x="390600" y="912960"/>
            <a:ext cx="8494560" cy="5684760"/>
          </a:xfrm>
          <a:prstGeom prst="rect">
            <a:avLst/>
          </a:prstGeom>
          <a:ln w="0">
            <a:noFill/>
          </a:ln>
        </p:spPr>
      </p:pic>
      <p:pic>
        <p:nvPicPr>
          <p:cNvPr id="1052" name="图片 2" descr=""/>
          <p:cNvPicPr/>
          <p:nvPr/>
        </p:nvPicPr>
        <p:blipFill>
          <a:blip r:embed="rId2"/>
          <a:stretch/>
        </p:blipFill>
        <p:spPr>
          <a:xfrm>
            <a:off x="7956720" y="3068640"/>
            <a:ext cx="647640" cy="428760"/>
          </a:xfrm>
          <a:prstGeom prst="rect">
            <a:avLst/>
          </a:prstGeom>
          <a:ln w="0">
            <a:noFill/>
          </a:ln>
        </p:spPr>
      </p:pic>
      <p:pic>
        <p:nvPicPr>
          <p:cNvPr id="1053" name="图片 3" descr=""/>
          <p:cNvPicPr/>
          <p:nvPr/>
        </p:nvPicPr>
        <p:blipFill>
          <a:blip r:embed="rId3"/>
          <a:stretch/>
        </p:blipFill>
        <p:spPr>
          <a:xfrm>
            <a:off x="7894800" y="5661000"/>
            <a:ext cx="64764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4" name="图片 1" descr=""/>
          <p:cNvPicPr/>
          <p:nvPr/>
        </p:nvPicPr>
        <p:blipFill>
          <a:blip r:embed="rId1"/>
          <a:stretch/>
        </p:blipFill>
        <p:spPr>
          <a:xfrm>
            <a:off x="324000" y="754200"/>
            <a:ext cx="8496000" cy="6057720"/>
          </a:xfrm>
          <a:prstGeom prst="rect">
            <a:avLst/>
          </a:prstGeom>
          <a:ln w="0">
            <a:noFill/>
          </a:ln>
        </p:spPr>
      </p:pic>
      <p:pic>
        <p:nvPicPr>
          <p:cNvPr id="1055" name="图片 2" descr=""/>
          <p:cNvPicPr/>
          <p:nvPr/>
        </p:nvPicPr>
        <p:blipFill>
          <a:blip r:embed="rId2"/>
          <a:stretch/>
        </p:blipFill>
        <p:spPr>
          <a:xfrm>
            <a:off x="7812000" y="1773360"/>
            <a:ext cx="647640" cy="428400"/>
          </a:xfrm>
          <a:prstGeom prst="rect">
            <a:avLst/>
          </a:prstGeom>
          <a:ln w="0">
            <a:noFill/>
          </a:ln>
        </p:spPr>
      </p:pic>
      <p:pic>
        <p:nvPicPr>
          <p:cNvPr id="1056" name="图片 3" descr=""/>
          <p:cNvPicPr/>
          <p:nvPr/>
        </p:nvPicPr>
        <p:blipFill>
          <a:blip r:embed="rId3"/>
          <a:stretch/>
        </p:blipFill>
        <p:spPr>
          <a:xfrm>
            <a:off x="4211640" y="6323040"/>
            <a:ext cx="223200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7" name="图片 1" descr=""/>
          <p:cNvPicPr/>
          <p:nvPr/>
        </p:nvPicPr>
        <p:blipFill>
          <a:blip r:embed="rId1"/>
          <a:stretch/>
        </p:blipFill>
        <p:spPr>
          <a:xfrm>
            <a:off x="282600" y="754200"/>
            <a:ext cx="8580240" cy="5972040"/>
          </a:xfrm>
          <a:prstGeom prst="rect">
            <a:avLst/>
          </a:prstGeom>
          <a:ln w="0">
            <a:noFill/>
          </a:ln>
        </p:spPr>
      </p:pic>
      <p:pic>
        <p:nvPicPr>
          <p:cNvPr id="1058" name="图片 2" descr=""/>
          <p:cNvPicPr/>
          <p:nvPr/>
        </p:nvPicPr>
        <p:blipFill>
          <a:blip r:embed="rId2"/>
          <a:stretch/>
        </p:blipFill>
        <p:spPr>
          <a:xfrm>
            <a:off x="2565360" y="1216080"/>
            <a:ext cx="1800360" cy="428400"/>
          </a:xfrm>
          <a:prstGeom prst="rect">
            <a:avLst/>
          </a:prstGeom>
          <a:ln w="0">
            <a:noFill/>
          </a:ln>
        </p:spPr>
      </p:pic>
      <p:pic>
        <p:nvPicPr>
          <p:cNvPr id="1059" name="图片 3" descr=""/>
          <p:cNvPicPr/>
          <p:nvPr/>
        </p:nvPicPr>
        <p:blipFill>
          <a:blip r:embed="rId3"/>
          <a:stretch/>
        </p:blipFill>
        <p:spPr>
          <a:xfrm>
            <a:off x="7093080" y="2246400"/>
            <a:ext cx="1800000" cy="428400"/>
          </a:xfrm>
          <a:prstGeom prst="rect">
            <a:avLst/>
          </a:prstGeom>
          <a:ln w="0">
            <a:noFill/>
          </a:ln>
        </p:spPr>
      </p:pic>
      <p:pic>
        <p:nvPicPr>
          <p:cNvPr id="1060" name="图片 4" descr=""/>
          <p:cNvPicPr/>
          <p:nvPr/>
        </p:nvPicPr>
        <p:blipFill>
          <a:blip r:embed="rId4"/>
          <a:stretch/>
        </p:blipFill>
        <p:spPr>
          <a:xfrm>
            <a:off x="1547640" y="2760840"/>
            <a:ext cx="5761080" cy="428400"/>
          </a:xfrm>
          <a:prstGeom prst="rect">
            <a:avLst/>
          </a:prstGeom>
          <a:ln w="0">
            <a:noFill/>
          </a:ln>
        </p:spPr>
      </p:pic>
      <p:pic>
        <p:nvPicPr>
          <p:cNvPr id="1061" name="图片 5" descr=""/>
          <p:cNvPicPr/>
          <p:nvPr/>
        </p:nvPicPr>
        <p:blipFill>
          <a:blip r:embed="rId5"/>
          <a:stretch/>
        </p:blipFill>
        <p:spPr>
          <a:xfrm>
            <a:off x="7380360" y="3252960"/>
            <a:ext cx="1368360" cy="428400"/>
          </a:xfrm>
          <a:prstGeom prst="rect">
            <a:avLst/>
          </a:prstGeom>
          <a:ln w="0">
            <a:noFill/>
          </a:ln>
        </p:spPr>
      </p:pic>
      <p:pic>
        <p:nvPicPr>
          <p:cNvPr id="1062" name="图片 6" descr=""/>
          <p:cNvPicPr/>
          <p:nvPr/>
        </p:nvPicPr>
        <p:blipFill>
          <a:blip r:embed="rId6"/>
          <a:stretch/>
        </p:blipFill>
        <p:spPr>
          <a:xfrm>
            <a:off x="1619280" y="3782880"/>
            <a:ext cx="5689440" cy="428760"/>
          </a:xfrm>
          <a:prstGeom prst="rect">
            <a:avLst/>
          </a:prstGeom>
          <a:ln w="0">
            <a:noFill/>
          </a:ln>
        </p:spPr>
      </p:pic>
      <p:pic>
        <p:nvPicPr>
          <p:cNvPr id="1063" name="图片 7" descr=""/>
          <p:cNvPicPr/>
          <p:nvPr/>
        </p:nvPicPr>
        <p:blipFill>
          <a:blip r:embed="rId7"/>
          <a:stretch/>
        </p:blipFill>
        <p:spPr>
          <a:xfrm>
            <a:off x="7775640" y="5799240"/>
            <a:ext cx="82872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图片 1" descr=""/>
          <p:cNvPicPr/>
          <p:nvPr/>
        </p:nvPicPr>
        <p:blipFill>
          <a:blip r:embed="rId1"/>
          <a:stretch/>
        </p:blipFill>
        <p:spPr>
          <a:xfrm>
            <a:off x="957240" y="712800"/>
            <a:ext cx="7229520" cy="990720"/>
          </a:xfrm>
          <a:prstGeom prst="rect">
            <a:avLst/>
          </a:prstGeom>
          <a:ln w="0">
            <a:noFill/>
          </a:ln>
        </p:spPr>
      </p:pic>
      <p:pic>
        <p:nvPicPr>
          <p:cNvPr id="1065" name="图片 2" descr=""/>
          <p:cNvPicPr/>
          <p:nvPr/>
        </p:nvPicPr>
        <p:blipFill>
          <a:blip r:embed="rId2"/>
          <a:stretch/>
        </p:blipFill>
        <p:spPr>
          <a:xfrm>
            <a:off x="488880" y="1757520"/>
            <a:ext cx="7801200" cy="5019480"/>
          </a:xfrm>
          <a:prstGeom prst="rect">
            <a:avLst/>
          </a:prstGeom>
          <a:ln w="0">
            <a:noFill/>
          </a:ln>
        </p:spPr>
      </p:pic>
      <p:pic>
        <p:nvPicPr>
          <p:cNvPr id="1066" name="图片 3" descr=""/>
          <p:cNvPicPr/>
          <p:nvPr/>
        </p:nvPicPr>
        <p:blipFill>
          <a:blip r:embed="rId3"/>
          <a:stretch/>
        </p:blipFill>
        <p:spPr>
          <a:xfrm>
            <a:off x="1908000" y="1733400"/>
            <a:ext cx="6480360" cy="428760"/>
          </a:xfrm>
          <a:prstGeom prst="rect">
            <a:avLst/>
          </a:prstGeom>
          <a:ln w="0">
            <a:noFill/>
          </a:ln>
        </p:spPr>
      </p:pic>
      <p:pic>
        <p:nvPicPr>
          <p:cNvPr id="1067" name="图片 4" descr=""/>
          <p:cNvPicPr/>
          <p:nvPr/>
        </p:nvPicPr>
        <p:blipFill>
          <a:blip r:embed="rId4"/>
          <a:stretch/>
        </p:blipFill>
        <p:spPr>
          <a:xfrm>
            <a:off x="971640" y="2244600"/>
            <a:ext cx="7345440" cy="428760"/>
          </a:xfrm>
          <a:prstGeom prst="rect">
            <a:avLst/>
          </a:prstGeom>
          <a:ln w="0">
            <a:noFill/>
          </a:ln>
        </p:spPr>
      </p:pic>
      <p:pic>
        <p:nvPicPr>
          <p:cNvPr id="1068" name="图片 5" descr=""/>
          <p:cNvPicPr/>
          <p:nvPr/>
        </p:nvPicPr>
        <p:blipFill>
          <a:blip r:embed="rId5"/>
          <a:stretch/>
        </p:blipFill>
        <p:spPr>
          <a:xfrm>
            <a:off x="971640" y="2738520"/>
            <a:ext cx="2087640" cy="428400"/>
          </a:xfrm>
          <a:prstGeom prst="rect">
            <a:avLst/>
          </a:prstGeom>
          <a:ln w="0">
            <a:noFill/>
          </a:ln>
        </p:spPr>
      </p:pic>
      <p:pic>
        <p:nvPicPr>
          <p:cNvPr id="1069" name="图片 6" descr=""/>
          <p:cNvPicPr/>
          <p:nvPr/>
        </p:nvPicPr>
        <p:blipFill>
          <a:blip r:embed="rId6"/>
          <a:stretch/>
        </p:blipFill>
        <p:spPr>
          <a:xfrm>
            <a:off x="6443640" y="3746520"/>
            <a:ext cx="2089080" cy="428760"/>
          </a:xfrm>
          <a:prstGeom prst="rect">
            <a:avLst/>
          </a:prstGeom>
          <a:ln w="0">
            <a:noFill/>
          </a:ln>
        </p:spPr>
      </p:pic>
      <p:pic>
        <p:nvPicPr>
          <p:cNvPr id="1070" name="图片 7" descr=""/>
          <p:cNvPicPr/>
          <p:nvPr/>
        </p:nvPicPr>
        <p:blipFill>
          <a:blip r:embed="rId7"/>
          <a:stretch/>
        </p:blipFill>
        <p:spPr>
          <a:xfrm>
            <a:off x="3348000" y="5773680"/>
            <a:ext cx="1871640" cy="428760"/>
          </a:xfrm>
          <a:prstGeom prst="rect">
            <a:avLst/>
          </a:prstGeom>
          <a:ln w="0">
            <a:noFill/>
          </a:ln>
        </p:spPr>
      </p:pic>
      <p:pic>
        <p:nvPicPr>
          <p:cNvPr id="1071" name="图片 8" descr=""/>
          <p:cNvPicPr/>
          <p:nvPr/>
        </p:nvPicPr>
        <p:blipFill>
          <a:blip r:embed="rId8"/>
          <a:stretch/>
        </p:blipFill>
        <p:spPr>
          <a:xfrm>
            <a:off x="7308720" y="6276960"/>
            <a:ext cx="122400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04T03:41:32Z</dcterms:modified>
  <cp:revision>4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